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3AA5-2866-47F2-9733-8A3E5F9C6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BF73-B2F6-4C5D-82DD-EE38E85E3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AE0D-DCFE-4C7D-89EE-26336D3D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EBA3-1091-44AC-969B-2473B8FB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A91E-033C-4211-82AC-1F4A9963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8E79-AB49-4220-884B-06F04519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896-1084-4228-8362-F845A164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2FE-3A7D-46BD-BB9A-220A5ADD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D72-27B5-4E35-B751-EB139031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9888-6679-4A47-9E38-09BBB25C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1FB-0145-4EB3-A072-A50F5252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6C06-5D2D-463A-BF56-1A9B6A9E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821-9818-4115-BB19-61F21DF6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DC88-CB65-4434-BA75-27C58E37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1CF5-6876-426A-9FE7-6053486CA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World is O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457200" y="3124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87720" y="487692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40360" y="15238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512160" y="48006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er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664440" y="31240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er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512160" y="15238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407640" y="167652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er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6407640" y="312408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er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6407640" y="45720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er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6331320" y="548640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er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20:17:28Z</dcterms:created>
  <dc:creator>STEVE</dc:creator>
  <dc:description/>
  <dc:language>en-US</dc:language>
  <cp:lastModifiedBy>Swan,Stephen Bryan</cp:lastModifiedBy>
  <dcterms:modified xsi:type="dcterms:W3CDTF">2013-03-26T22:32:11Z</dcterms:modified>
  <cp:revision>4</cp:revision>
  <dc:subject/>
  <dc:title>Opener 2</dc:title>
</cp:coreProperties>
</file>